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FA91-AB5B-4C19-87CC-3E3A99A7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F26C-F4FD-4CE2-9D73-3F1F31CD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D0DA-E0D4-4DAF-A94C-B3AD532F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7545-EE94-4260-96C7-74CB0187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22477-E901-4953-A81B-53B9CADC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766D1-6B0C-4D16-889E-4248A3C9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B7EF3-0092-4676-8965-39A24595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9EF96-B640-4D25-886A-9BB12BC7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3711D-EF2C-4495-A4B1-FC6FAE22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7FBB3-A5E9-43FD-8C54-7B5D2D2A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6C52A-DAB7-46CC-8434-FD6A8722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7151-C190-49E6-A5C5-2F8DD710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C7721-F1A6-464C-881F-EA3DD8F6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D7D1D-9A6A-4428-AA83-30C84E21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069CA-5BD4-4FA6-AC8C-89B747F1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100B4-5D85-4AB5-9D24-D2DBBBB3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9F8F3-22C3-42A1-A99D-81E20FB1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DD52-34C7-4CE5-9AD9-0FB651D7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B93A-BF96-4215-9DE9-B70C0C1F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752A-C325-4718-9E32-5AAA8FB5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2B1D-3D99-4AED-A349-2C0990B6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29D1-F386-4C96-A741-F6A389AD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5BB3-2811-445D-B71B-F18A8FAA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6B32-3428-4703-B1CB-B86DDD0C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FDED-A83B-473A-A825-EF49087311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178C-35BB-45CD-8CD4-AA0EE8734B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dc.gov/" TargetMode="External"/><Relationship Id="rId3" Type="http://schemas.openxmlformats.org/officeDocument/2006/relationships/hyperlink" Target="http://www.who.org/" TargetMode="External"/><Relationship Id="rId4" Type="http://schemas.openxmlformats.org/officeDocument/2006/relationships/hyperlink" Target="http://www.webmd.com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lamyd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Fatoumata Fof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lario Sal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ymptom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have no signs or sympt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dominal p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 back p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us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in during intercour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rning in pen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ansmitt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amydia is sexually transmit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s one of the most common sexually transmitted dis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causes Chlamydia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amydia is caused by the bacteria called Chlamydia Trachomati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mage of Chlamydia Trachomat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120" y="1509840"/>
            <a:ext cx="761976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st Preval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amydia is most prevalent in the U.S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can Chlamydia be treated or prevented 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prevent the consequences of Chlamydia women of the age 25 or younger should get a screening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amydia can be easily treated with antibiotics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alysis of the disea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thing we would do is make sure everyone is being tested for Chlamydia because you never know if you have it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so inform people about how they can treat it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www.cdc.go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www.who.or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www.webmd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9:38:13Z</dcterms:created>
  <dc:creator>Custom</dc:creator>
  <dc:description/>
  <dc:language>en-US</dc:language>
  <cp:lastModifiedBy>Custom</cp:lastModifiedBy>
  <dcterms:modified xsi:type="dcterms:W3CDTF">2010-03-04T19:26:08Z</dcterms:modified>
  <cp:revision>6</cp:revision>
  <dc:subject/>
  <dc:title>Chlamydia</dc:title>
</cp:coreProperties>
</file>